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7CE-F1FC-4388-85CF-8A300FF9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2EB-F184-4FFC-8703-6B19AA05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E60-6BB5-4F64-A945-805B46EC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DC7-33B3-4CC0-ABE0-7EC09D55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7F81-7548-4261-AFC7-2597AD29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330A-E210-4E03-8766-9ED91A2B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CB91-9F7A-46ED-8029-402BAE73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B075-E92B-4040-A150-2E9DD95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2281-3BD5-4CB4-A031-FD43DC7E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6761-835E-4261-ADE7-2DF1C600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7600-09DA-40C4-99B1-80D80BF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2E8-CEB8-48F7-8663-C8D9E84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085A-37B3-4E54-B25A-FBB2B189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FC15-F517-45B1-9EB7-BA8EB5A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AD8C-004D-4F2D-A3CE-DB371C69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B9DD-1024-456F-B335-8DDCE1B5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D97E-D981-4F00-BB1E-A8810D60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599-8967-4BB0-B064-F24D35F3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1DC-9247-4F71-A1FB-F8F2715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9D0-2235-43F8-B510-9C1F785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AF3-7283-42DC-B07A-8C6BCBA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B9D-106D-4253-ADC2-C1F9D4FC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D10-170D-4C39-8D62-FD8CFA3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928-07D4-4A3F-B6CE-00CB234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8D0-67FD-49A6-AD3B-424FFE28ACCD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382C-BA7B-43CD-9A7F-3267420D67C8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External Storage Device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62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emonstrate the function of each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1. Insert and find the storage device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2. Move files from the device to the computer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Move files from the computer to the device.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4. Safely remove the device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will have about 25-30 minutes to work on thi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r job is to back up all the files in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My Document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n this laptop cart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</a:t>
            </a: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 1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Break each group up into teams of 3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Distribute even number of laptops to the groups</a:t>
            </a:r>
            <a:br>
              <a:rPr sz="2500"/>
            </a:b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Create a folder on the external device and name it according to each computer number that you have.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4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Copy the information from the </a:t>
            </a:r>
            <a:r>
              <a:rPr b="1" i="1" lang="en-US" sz="2500" spc="-1" strike="noStrike">
                <a:solidFill>
                  <a:srgbClr val="212164"/>
                </a:solidFill>
                <a:latin typeface="Arial"/>
              </a:rPr>
              <a:t>My documents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folder to the proper folder you created.</a:t>
            </a:r>
            <a:br>
              <a:rPr sz="2500"/>
            </a:b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500" spc="-1" strike="noStrike" u="sng">
                <a:solidFill>
                  <a:srgbClr val="212164"/>
                </a:solidFill>
                <a:uFillTx/>
                <a:latin typeface="Arial"/>
              </a:rPr>
              <a:t>Step 5</a:t>
            </a:r>
            <a:r>
              <a:rPr b="0" i="1" lang="en-US" sz="2500" spc="-1" strike="noStrike">
                <a:solidFill>
                  <a:srgbClr val="212164"/>
                </a:solidFill>
                <a:latin typeface="Arial"/>
              </a:rPr>
              <a:t> - Repeat for each computer</a:t>
            </a:r>
            <a:br>
              <a:rPr sz="2500"/>
            </a:b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e group will demonstrate how to back up data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lected students will share particularly good examples of how files were stored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ion about focus question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ips and Trick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is an external storage devi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does it d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are some examples of external storage device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are some differences in the device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y are they importan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ow do you use one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epot Manager/Student Dialogu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ownload from the wiki –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212164"/>
                </a:solidFill>
                <a:uFillTx/>
                <a:latin typeface="Arial"/>
              </a:rPr>
              <a:t>http://oit.wikispaces.com/Backing+Up+Your+Work+Using+External+Devices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2 Students Act out the scrip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s the point of thi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What are the following device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What do they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28339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3556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017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i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941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7-02-01T22:49:25Z</dcterms:modified>
  <cp:revision>9</cp:revision>
  <dc:subject/>
  <dc:title>Workshop Title</dc:title>
</cp:coreProperties>
</file>